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73E4A-1B89-457D-B782-D2D34C5324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3B1AD-8CAF-4888-9A3E-5829E4FA68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9464A-020B-4015-A4D8-217946E589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39D24-E27E-4BBA-B3C0-B029EE3CB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576D7-B379-4FAC-8B49-C4A7A6F97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3EFAA-ED2D-49A9-B3C1-4E6FA0474E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467F7-2353-4CEE-9AA1-6FA0B9CBCF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D245A-EFAE-4D19-9E73-43F8812B8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5D6E3-2999-4618-BEE3-895591D67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0EEE7-88C6-46EC-A3C4-9B9FC415B3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1E17F-AFE1-466F-A00D-D8FF3002D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96FB8-8178-47EC-8F4C-F57693ABF5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F35EA-61D7-4F95-97CB-15723EB3EF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A916B-834C-4B22-8443-B3C16E39DE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D1938-81FC-4564-B730-6EF0EA8344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8D7F-32B3-428C-9F1E-AE29ABEA45F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F0B8-8904-42BA-B069-70C3331514C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BB84-4C66-4C48-9E85-6ECE7B9032F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B360-5B13-4D70-88F8-2B4CCD40431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7FEF-AE24-4241-A228-5B741A60644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4CC1-3F35-45AE-8E89-CF7BBC492F7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A586-4BD3-4F73-A7B7-36A4AA1025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99705-EE97-4CE1-9A79-45B4D7D4E6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1D18-D224-4821-9DF9-A113E0F1450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1389-16E5-4EB4-9075-0B2FA1E845C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F5D3-DE0C-4124-BB17-EB3C3A7EA96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8721-A98D-41C0-82F3-77554639FDA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8D43-D0D0-4789-AB0C-7DFDE15551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23A8A-5AAB-414A-B5B9-C9CC683F33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B0825-4178-4AF2-BB23-8C280C0B9D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3B34D-27C4-494B-934B-6C7157F55F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68EAA-39E0-4F6D-85DD-5A3AC118E3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1E917-2C27-495C-A533-85E4ACCB53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D83A3-D1EA-414C-A461-DB313D7563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A9FE7-F8B9-407B-91CC-2365B1A18D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5D963-5805-42A7-A737-24D1CC7E61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D23FA-62D2-44CD-82C3-4467E52AEC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EQA Scheme Organization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657A-B03D-4DB5-821F-A7640DD76F6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interests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im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fidentiali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cknowle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m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4C39D-6705-4558-A899-8ED4C54F7E2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ries, feedback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ference” role of the EQ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s and recommendation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participating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solv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recommending certai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2514600" cy="188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05320" y="4343400"/>
            <a:ext cx="5105160" cy="1641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erfect is not too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5904F-F657-4EBD-8528-2471E9FE681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 already controlled by a international EQA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involve the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i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non-contaminat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good communication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ay careful attention to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SimSun"/>
              </a:rPr>
              <a:t>Starting an EQA Program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7d"/>
                </a:solidFill>
                <a:latin typeface="Verdana"/>
                <a:ea typeface="SimSu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2C3EA-FBCE-4CD6-A0FA-D2218F080B7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38680" y="20574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148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163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164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165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170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74"/>
              <p:cNvSpPr/>
              <p:nvPr/>
            </p:nvSpPr>
            <p:spPr>
              <a:xfrm>
                <a:off x="22654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173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174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179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184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188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191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197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200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203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65C1E-319B-4BF5-A92A-E47F14B8CBD1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proficiency test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of laboratories – interlaboratory comparisons/re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on-site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DF91E-66B0-4A6A-8EE4-23FC5883EA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rior Participation (and Success!) in a PT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SimSun"/>
              </a:rPr>
              <a:t>need to subscribe to a foreig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monitor its ow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mperative and oblig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 question o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BF8A3-E375-404A-9F67-9F9BF48DB58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Involve th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guarantees </a:t>
            </a:r>
            <a:r>
              <a:rPr b="0" lang="en-GB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ed to the institution’s 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mean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liaise with operating licensing / certification / accreditation / national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(EQA activiti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reate saving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them is wor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213372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EB41B-6396-4473-8522-914E99C262F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im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roficienc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, stained or uns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Gram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acid-fast bacilli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of bacterial s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nteric microorganism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Re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 (AFB, Gram, CSF,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bacterial strains if materials and technical capability is present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strain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952880" y="2362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A4DD0-80A8-43BE-817D-E81BF55A691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mall number of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ilo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verify transport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ries for a tes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outside of the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first study with basic materials (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ries for the fir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items per parcel (minimum 2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51360" cy="2590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9759200">
            <a:off x="7238880" y="22096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36DDB-23F6-4893-9894-DA7D680553F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SimSun"/>
              </a:rPr>
              <a:t>Start with Non-Contaminat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n the beginning, avoid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dangerous” pathoge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ntaminated s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follow national transportation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473A5-82A2-4E23-AE7D-EBD047BBBD1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hysica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al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smal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549D5-A8A8-40BF-B803-038AA928AED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articipating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scientific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rofession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ny other with interest in 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EQ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F8F88-8727-4B2C-AE57-58B3BC707A5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Robin Barteluk</cp:lastModifiedBy>
  <dcterms:modified xsi:type="dcterms:W3CDTF">2008-11-28T02:21:01Z</dcterms:modified>
  <cp:revision>12</cp:revision>
  <dc:subject/>
  <dc:title>EQA scheme Organization optional</dc:title>
</cp:coreProperties>
</file>